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6F2A-9CBF-4C74-B2AB-2B5B9D65C57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n History – Henrich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dustrial Revol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merican History – Henrichs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Gos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to 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good works to the people of the US based on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e Addams – Hull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Gosp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action to 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ovides good works to the people of the US based on relig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ne Addams – Hull Hous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embly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educate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job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ngi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ea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a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aso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thin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oo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ssembly 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neducate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jobs availab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ss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ed rail c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wr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dak cam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v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le and Electric street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tain 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llette Raz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h Reg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inventions has most affected our lives tod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vent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frigerated rail c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ypewri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odak camer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levat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ble and Electric streetca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tain P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illette Raz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sh Regis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acuum Clean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ich of these inventions has most affected our lives toda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source of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and easy to fit inside the 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oye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hil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new source of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mall and easy to fit inside the 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stroyed the bod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ong hou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U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immigrant ideas used to support many of the anti-union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bor Un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ti-immigrant ideas used to support many of the anti-union law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 to vo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in 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is always less then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e ties to the garment indu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Infl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men Worke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ight to vote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ill not th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in 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y is always less then m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finite ties to the garment indust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duc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Influenc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al Machines – Boss Tw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ties to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een as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N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al Machines – Boss Twe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rrup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se ties to 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seen as a proble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Na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unified group as many seem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mmigr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a unified group as many seem toda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po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nopol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ertic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Oi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Ste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orizont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crosof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9BB-540F-4B2D-BEA8-346EFF7E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2FD-8084-4233-92EF-E8F417E1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0D8-A467-4C9B-A357-8F4FA9DB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F7D-A279-4D39-AE49-1CA0B600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F1E9-E1E9-4473-BA6C-1DA6DED2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673B-1E9E-4542-B14E-E816E95D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8F02-CDE7-4E09-BBCC-5C147B8D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BB72-8C6D-43E2-978D-2F5C00EA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3F13-CEC5-4CBE-A6C9-9145C50A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1CCF-6D36-490E-A8AC-125EF918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C8C0-F248-4BDA-AEBE-4D2333D2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772-F034-4426-8931-48AFB20A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3B0F-A9FF-448E-B0CF-A933044B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85B1-FA7F-4020-BBA4-2EAE949C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8D3E-D019-4369-8382-C77EB0D2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3967-2157-4B1C-8ADC-E6AA6629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97DE-7FF9-4518-89F1-B4A13FAD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243-EF4B-439B-9F2D-DDE7ACC0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6D3-9FC0-47AF-AFF1-DA27FA6B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5E6-89F8-411D-B349-6695CF87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104-2D9E-4CC1-A93A-E300FFB7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181-E36C-47AA-8D7B-3E6B0329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387-CFF5-431A-8EC0-C06C6C86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0ED-9020-4E32-B5DA-B94C11EA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C506-3641-4284-B816-C619C4A76E8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35C5-37A8-4933-8FD4-84995B62EEF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erican History – Henrichs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Darwinis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sapplication of Darwin’s theories on evolution to areas of society such as money and inherited wealth and l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referred specifically to those of a different ethnic and/or religious backg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Gospe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ction to Social Darwin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s good works to the people of the US based on relig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ideas such as settlement houses, aid to single mothers, immigr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ane Addams – Hull Hou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chine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gi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sol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oth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o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embly 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 lab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ny jobs avail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s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n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frigerated rail c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ewri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dak camer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lev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ble and Electric streetc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ntain P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illette Raz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sh Regis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cuum Clea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ich of these inventions has most affected our lives toda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do you think you could invent that would affect future societ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ild Lab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new source of la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ll and easy to fit inside the machine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troyed the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ng hou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bor Un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got together to encourage safety, better pay, as well as continued jobs when the government and society were pro-busi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ws were created to specifically ban unions as they were seen as anti-business and possibly communi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ti-immigrant ideas used to support many of the anti-union la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omen Worke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ight to vot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ill not t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in 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y is always less then m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erred for some jobs as they were smaller and easier to fit in the small spa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ite ties to the garment indust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Influ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tical Machines – Boss Twe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rrup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ose ties to busin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seen as a probl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omas Na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a unified group as many seem tod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divisions and hatred especially to those who were from either the poorer and/or Catholic areas of Eur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re were specific rules against immigration from Asia based on racism and cultural differe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ve to send Black Americans back to Africa was led by Marcus Garvey and eventually started the country of Liber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nopol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rt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every aspect of a single product from production to the final sales and distrib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Oi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Ste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a single level of a product ie all distribution, sales or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1:41:18Z</dcterms:created>
  <dc:creator>Cody Henrichsen</dc:creator>
  <dc:description/>
  <dc:language>en-US</dc:language>
  <cp:lastModifiedBy>Legion</cp:lastModifiedBy>
  <dcterms:modified xsi:type="dcterms:W3CDTF">2017-07-05T10:53:08Z</dcterms:modified>
  <cp:revision>22</cp:revision>
  <dc:subject/>
  <dc:title>Industrial Revolution</dc:title>
</cp:coreProperties>
</file>